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DC0-DC09-44B5-A696-3652E60D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364-06EF-4CAD-9099-AE970CD1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4FC4-E797-4F27-8BA9-47CF9A0B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3C8F8-C030-408C-97A4-9C154D21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119CF-C2B9-4EC9-9D63-8515D6C4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CC47E-F2FC-403F-B4E5-01EA15C0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275F-BC48-468D-AB04-C7D68EC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B7C44-921E-4729-8238-2E5E6E7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27B88-BD2C-465B-9D5C-AF03923C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1F8CF-5D54-41E2-A4D6-CC78FFBA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0BB3B-161A-426B-9DD0-C5218898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076-B4E5-4B36-A82C-C5064684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DC6-D6CB-4B5B-89E9-E1794D12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64DA-9A65-4423-B9A8-47408C98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145-6943-4DA6-A099-D298850C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B2A2-4F6B-47FB-8BDB-1CC2D554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D232-6440-4579-9C90-51D0D8EB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30FE-701B-420F-A1DB-5F054DF4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C618-654C-4529-B6CE-20491CE3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D30C-2FC9-4F9A-A3FF-CFBA0E8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F91-D019-4C4C-8DFF-A851F596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7181-D57F-47D0-9A5F-81EFDC05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439-E9D3-468A-BF59-9831789E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A35D2-7407-4179-9158-D3DE8AA4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5583-A1DA-4695-87F9-32EFE6CA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A027-D98A-4E55-A996-57EE890A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9EEB-0114-4931-8391-A272282A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2694-796E-41E5-960C-76E6970D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7EE48-D740-4044-8A46-367C234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6985-197D-457C-B064-83023F4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E93F6-A9B7-44B3-A826-3428B8B4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774-E48C-4285-B53D-CFC1A833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47D7-C545-4D5E-A887-DD43F4FC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01889-333B-448E-AC9E-2A234C31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D49E-B1C5-4791-9150-B2D4232A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7579-B0A4-4992-8CE3-823FD390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05294-656D-423B-9B65-5EE5CA7A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140F-0025-44FE-9B2A-79D3A74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853DC-36FE-4EA8-ADD0-6AADF356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95BE9-918F-4171-9232-7747C7AC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9A07-E4C0-4EB7-88AC-5CFC6337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2254C-7AA3-46D2-8A2D-C6687EE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911-40A3-41C2-9D2F-236D49C9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C73F9-EEC7-4335-871E-CA155C7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87BF2-A000-4D0C-97CA-FF93E558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462F-04D1-439C-BDA6-A4E3FEF5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869A-F26F-4779-B8C1-CC3EA097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4199-0B0C-4CF9-931B-4DC077F5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D2371-E484-4D0E-AB0D-95D76E2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A697-BCDA-423B-BE0B-095AFC68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4FFA4-0263-417C-B7DF-F794A08C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13783-58ED-450A-912A-F155447B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D1B15-8A75-4CC2-8D2F-1D127540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55F-ABFC-4497-B1E4-1C8096A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37855-7409-4962-8E11-D3BDEA61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7A2D-7A6A-44DB-9C15-CA19EB72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5178-216B-4FB5-8489-B46ADA5E3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DD54-6C67-4E0A-8D4D-BCA14702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F8FC-9BDD-492C-81C5-0F4B89F4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3A24F-D748-406B-BA74-BD35D635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98CA-674F-4738-AD75-499078ED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92A55-D2C3-465B-9851-F57C342C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1EB18-CB53-4807-B31F-166ED9A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887CC-E3F3-4D4E-887F-6D02D0EB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E06-95FA-4DCE-B84C-2869C3E4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CF793-93C1-4AA6-B48A-B8E4EDA3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7873A-B085-4713-934A-E5448663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DB344-5456-47ED-B057-89F9B88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58C89-5FB2-48C8-A3F7-DEED31E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52233-F16E-46BF-863C-75BDC9B3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889A-4420-4946-B876-8EDCAFF4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88298-0895-44E9-834C-D940595A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348B-622A-4F08-B8D4-403741EC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22943-7AF4-411F-B3D1-6AE3797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FB065-4CF3-44FA-8AAB-FE9473D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3341-DB87-404C-9985-2967C09C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E8732-4FA6-42B5-A268-40E21D5A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18355-4355-48ED-B930-2E2D16271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0E28-721F-487B-9E4D-7CE26D92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826E0-4BDC-4E40-BA25-D86902D7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4DACE-12CB-4471-A379-8C748F8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91075-6116-461A-9E6D-DE2F47C7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33675-753F-48D4-AAFC-40A2D10E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4901-A860-4B2B-BF96-80D473CE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D97E2-5E29-4CC9-9CF0-FFC3C361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02C8B-45D2-407B-8331-B8A7BD4A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EB8-1318-428C-AFA6-9C31C45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27D94-805B-4B43-9C2F-989AA20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3D4D-D337-4011-A98E-5A53A0F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03982-9A85-4FC6-9075-4F97A34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43FE5-9FB2-406B-816B-C0649AA8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FA26-1D62-46AB-95D2-63402C3A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C27DD-B771-4E56-ADDF-97A90157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20AA0-2408-47BB-98D5-DBF5D19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EBA5F-F94C-4671-AA90-05C4F49F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F3007-7288-4252-B3C7-0551936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7BAE6-130A-466B-BDF2-7688BC4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885-FCA6-4AD6-B66F-279920B2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D0923-48B2-4B7B-A197-239C2C54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683C4-B4D0-4823-B7F2-13BC7CF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63DAC-CE7F-4F0E-8F16-1E03BA0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A1D8-B34E-4AE7-BCC5-A63BE92A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C1D16-5106-4F2C-BA5D-AF2CB78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13C85-5E69-4FE3-B60A-5632544F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1239F-D439-4C36-833D-21456291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6D139-D8C6-4C3A-B65E-6AA2E6FC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A9DC7-A5FE-4707-9A58-8D013CE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0E787-E1E9-4E2F-8A0F-39329DA3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0CB9-015D-4EB9-92F8-8408A9CE2FF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EAE5-B619-4415-8726-80A8CFB7ABE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4492-81B6-49F9-BB3C-6EA5F86CD87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2140-83A8-4D0C-9C25-9FE272AB34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2BF-8886-4156-8B77-43D3CC489D2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350-4C89-4085-BDA9-2CEC0616900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C324-2DA6-45E2-8F40-4C9E856CB8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81A-6A5D-4220-A059-058FCA033B4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AA8-AC91-4574-B3A7-FDB7A8C15B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3" descr=""/>
          <p:cNvPicPr/>
          <p:nvPr/>
        </p:nvPicPr>
        <p:blipFill>
          <a:blip r:embed="rId1"/>
          <a:stretch/>
        </p:blipFill>
        <p:spPr>
          <a:xfrm>
            <a:off x="298440" y="378000"/>
            <a:ext cx="8699400" cy="2079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9047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4e3b30"/>
                </a:solidFill>
                <a:latin typeface="Franklin Gothic Book"/>
              </a:rPr>
              <a:t>Courageous Conversations</a:t>
            </a:r>
            <a:endParaRPr b="0" lang="en-US" sz="5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October 14, 2011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10:30-11:30 AM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Halee Vang,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Leticia Guadarrama,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4e3b30"/>
                </a:solidFill>
                <a:latin typeface="Franklin Gothic Book"/>
              </a:rPr>
              <a:t>John Wolfe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75212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20:57:21Z</dcterms:created>
  <dc:creator>Administrator</dc:creator>
  <dc:description/>
  <dc:language>en-US</dc:language>
  <cp:lastModifiedBy>Administrator</cp:lastModifiedBy>
  <dcterms:modified xsi:type="dcterms:W3CDTF">2011-10-13T21:21:07Z</dcterms:modified>
  <cp:revision>3</cp:revision>
  <dc:subject/>
  <dc:title>Courageous Conversations</dc:title>
</cp:coreProperties>
</file>